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9A65-0393-4808-A137-A8113D4D4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CDEE-8CF4-4A83-98C6-A66F9B65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841B-AEB4-40A6-A478-2543E9F0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96A5-5AE3-4F10-896C-A1A062D24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1794-486B-4B9C-9B5B-1934C917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8F93-4B97-45D4-9DD1-4DC0EF8A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5384-5C62-4BE7-8C86-754A99FC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15FC-C88C-4F49-9804-46D4068D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B6C8-6523-4D9F-8242-51E7D3C6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A358-B008-468C-BDDB-0848D49E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F91D-580A-42D4-A19C-F22DE3D1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8275-4410-4D88-BB75-66B9DDED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2DA2-33A2-4637-BDF2-BC3136BFCE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09600" y="252360"/>
            <a:ext cx="85248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281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4680"/>
            <a:ext cx="914868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84916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ول السورة وعدد آيات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أنفال في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دينة المن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60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زمن نزول سورة الأنفا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قب غزوة بد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الأنفا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75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5013360"/>
            <a:ext cx="86659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أنفال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ذكرها في بداية السو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9360" cy="98100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3429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ماء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5"/>
          <p:cNvSpPr/>
          <p:nvPr/>
        </p:nvSpPr>
        <p:spPr>
          <a:xfrm flipH="1">
            <a:off x="4642920" y="380988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6"/>
          <p:cNvSpPr/>
          <p:nvPr/>
        </p:nvSpPr>
        <p:spPr>
          <a:xfrm flipH="1" flipV="1">
            <a:off x="1547640" y="4046400"/>
            <a:ext cx="604872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4343400"/>
            <a:ext cx="2087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بد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رابط كسهم مستقيم 18"/>
          <p:cNvCxnSpPr/>
          <p:nvPr/>
        </p:nvCxnSpPr>
        <p:spPr>
          <a:xfrm>
            <a:off x="7596000" y="40831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عنوان 1"/>
          <p:cNvSpPr/>
          <p:nvPr/>
        </p:nvSpPr>
        <p:spPr>
          <a:xfrm>
            <a:off x="6012000" y="4354560"/>
            <a:ext cx="2952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نف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>
            <a:off x="1547280" y="404604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227160" y="5629320"/>
            <a:ext cx="86659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بد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 معظم الآيات نزلت بعد معركة بدر الكبرى ولها علاقة بالجهاد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9360" cy="981000"/>
          </a:xfrm>
          <a:prstGeom prst="rect">
            <a:avLst/>
          </a:prstGeom>
          <a:ln w="0">
            <a:noFill/>
          </a:ln>
        </p:spPr>
      </p:pic>
      <p:sp>
        <p:nvSpPr>
          <p:cNvPr id="62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غزوة بدر وفضل الله في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رابط مستقيم 19"/>
          <p:cNvSpPr/>
          <p:nvPr/>
        </p:nvSpPr>
        <p:spPr>
          <a:xfrm>
            <a:off x="8820000" y="1662120"/>
            <a:ext cx="0" cy="392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أحكام الشرعية مرجعها إلى الله ورسوله </a:t>
            </a:r>
            <a:r>
              <a:rPr b="1" lang="en-US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طاعة الله ورسوله </a:t>
            </a:r>
            <a:r>
              <a:rPr b="1" lang="en-US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خطورة معصيتهم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خطورة المعاص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27"/>
          <p:cNvCxnSpPr/>
          <p:nvPr/>
        </p:nvCxnSpPr>
        <p:spPr>
          <a:xfrm flipH="1">
            <a:off x="8456040" y="4282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250920" y="406728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إعداد القو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له لا يغير ما بهم حتى يغيروا ما بأنفس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7" name="رابط كسهم مستقيم 31"/>
          <p:cNvCxnSpPr/>
          <p:nvPr/>
        </p:nvCxnSpPr>
        <p:spPr>
          <a:xfrm flipH="1">
            <a:off x="8456040" y="4716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" name="عنوان 1"/>
          <p:cNvSpPr/>
          <p:nvPr/>
        </p:nvSpPr>
        <p:spPr>
          <a:xfrm>
            <a:off x="250920" y="450072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جواز الميل إلى السلم إذا طلب العدو ذل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رابط كسهم مستقيم 33"/>
          <p:cNvCxnSpPr/>
          <p:nvPr/>
        </p:nvCxnSpPr>
        <p:spPr>
          <a:xfrm flipH="1">
            <a:off x="8456040" y="5148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عنوان 1"/>
          <p:cNvSpPr/>
          <p:nvPr/>
        </p:nvSpPr>
        <p:spPr>
          <a:xfrm>
            <a:off x="250920" y="4932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غنائم والأسر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رابط كسهم مستقيم 35"/>
          <p:cNvCxnSpPr/>
          <p:nvPr/>
        </p:nvCxnSpPr>
        <p:spPr>
          <a:xfrm flipH="1">
            <a:off x="8457480" y="5579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عنوان 1"/>
          <p:cNvSpPr/>
          <p:nvPr/>
        </p:nvSpPr>
        <p:spPr>
          <a:xfrm>
            <a:off x="252360" y="5364000"/>
            <a:ext cx="8209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مؤمنين أمة واح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9360" cy="981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6000" cy="360036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8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